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9F7CAB-CCC7-447B-894A-BA9A63AC775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3D2756-CB7F-499A-9105-87F50C09E31F}" type="slidenum">
              <a:rPr b="0" lang="it-IT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0F1C3D-D35E-4666-9181-9A2636DCFBBF}" type="slidenum">
              <a:rPr b="0" lang="it-IT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7758F8-3DEE-40E3-8456-EDD079B88CF5}" type="slidenum">
              <a:rPr b="0" lang="it-IT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890805-1BCC-400C-9985-97C0F9D9AE69}" type="slidenum">
              <a:rPr b="0" lang="it-IT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9D4128-C49B-4038-A133-727444B6D8EB}" type="slidenum">
              <a:rPr b="0" lang="it-IT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48A27A-6AC7-47D6-A611-F192C175361F}" type="slidenum">
              <a:rPr b="0" lang="it-IT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FA025A-A2BC-4600-B087-B39921D501AE}" type="slidenum">
              <a:rPr b="0" lang="it-IT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D7B9FB-38C7-4209-AD09-4E7033382D1E}" type="slidenum">
              <a:rPr b="0" lang="it-IT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C31D09-A035-4F2C-B150-6534DFE1C6AB}" type="slidenum">
              <a:rPr b="0" lang="it-IT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5A4257-483B-492B-8F9E-E51F91C32C48}" type="slidenum">
              <a:rPr b="0" lang="it-IT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8E056D-4F43-4FF1-985D-072EE5D78F40}" type="slidenum">
              <a:rPr b="0" lang="it-IT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DDA2A2-6D30-4B92-86F2-7F33A5370C5F}" type="slidenum">
              <a:rPr b="0" lang="it-IT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03BC5A-0CB0-4EAB-8A7A-48109EFB6D7E}" type="slidenum">
              <a:rPr b="0" lang="it-IT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1A0464-ACEA-4B33-BD20-343E4F2EC266}" type="slidenum">
              <a:rPr b="0" lang="it-IT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0EF70F-1047-498E-B5D8-9224BF2C07BC}" type="slidenum">
              <a:rPr b="0" lang="it-IT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BD094C-D8B4-41FE-845B-11C6556AE309}" type="slidenum">
              <a:rPr b="0" lang="it-IT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350824-2872-4A31-BE03-3A86FCB52755}" type="slidenum">
              <a:rPr b="0" lang="it-IT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E7A5E-67BB-496C-8510-57DCC99DFB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96AD7-DA55-49F4-B5F0-C3C0DC9150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C2E30-51E9-4AE4-8ACE-1393FA1BFC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373B2-0CE5-4313-A20B-659FA0C198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3E39F-69E8-4437-A95D-10E666F46C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A7F18-B960-4C3E-9494-20A8D00139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099ED-4D4E-4226-A46E-5FABCDA015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37B84-3CB6-4F12-87D6-ACC787469C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8B533-57E9-4881-AAC4-1D877C6E76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4F7F7-6994-40BB-B0DA-96E4B82900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29E5C-EEF7-4ACE-8AC4-6C9397B492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AE4EA-D8D2-4A22-8888-BB53A49FC6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0D0751-A6C7-4677-B7F1-1D7EB91EB0E4}" type="slidenum">
              <a:rPr b="0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nterprise-ebg.eu/" TargetMode="External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755640" y="2637000"/>
            <a:ext cx="792000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800" spc="-1" strike="noStrike">
                <a:solidFill>
                  <a:srgbClr val="000066"/>
                </a:solidFill>
                <a:latin typeface="Century Gothic"/>
              </a:rPr>
              <a:t>ENTERPRISE EBG – EUROPEAN BUSINESS G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800" spc="-1" strike="noStrike">
                <a:solidFill>
                  <a:srgbClr val="000066"/>
                </a:solidFill>
                <a:latin typeface="Century Gothic"/>
              </a:rPr>
              <a:t>SEMINARIO DI AVVI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800" spc="-1" strike="noStrike">
                <a:solidFill>
                  <a:srgbClr val="000066"/>
                </a:solidFill>
                <a:latin typeface="Century Gothic"/>
              </a:rPr>
              <a:t>Faenza, 5 novembre 20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324000" y="5734080"/>
            <a:ext cx="8424720" cy="1440"/>
          </a:xfrm>
          <a:prstGeom prst="line">
            <a:avLst/>
          </a:prstGeom>
          <a:ln w="284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3494160" y="360360"/>
            <a:ext cx="1546200" cy="158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"/>
          <p:cNvPicPr/>
          <p:nvPr/>
        </p:nvPicPr>
        <p:blipFill>
          <a:blip r:embed="rId2"/>
          <a:stretch/>
        </p:blipFill>
        <p:spPr>
          <a:xfrm>
            <a:off x="1187280" y="6021360"/>
            <a:ext cx="7201080" cy="6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468360" y="333360"/>
            <a:ext cx="8064360" cy="604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611280" y="392040"/>
            <a:ext cx="770580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Calibri"/>
              </a:rPr>
              <a:t>AFFIANCAMENTO E  MATERIALI DI SUPPOR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000" spc="-1" strike="noStrike" u="sng">
                <a:solidFill>
                  <a:srgbClr val="262699"/>
                </a:solidFill>
                <a:uFillTx/>
                <a:latin typeface="Arial"/>
              </a:rPr>
              <a:t>Scarica la APP di St-art App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Vai sull’App-store di Ios o Android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cerca e scarica la </a:t>
            </a:r>
            <a:r>
              <a:rPr b="1" lang="it-IT" sz="2000" spc="-1" strike="noStrike">
                <a:solidFill>
                  <a:srgbClr val="003399"/>
                </a:solidFill>
                <a:latin typeface="Arial"/>
              </a:rPr>
              <a:t>APP GRATUITA di</a:t>
            </a: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Arial"/>
              </a:rPr>
              <a:t>St-art app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Arial"/>
              </a:rPr>
              <a:t> </a:t>
            </a: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In alternativa puoi accedere ai contenuti tramite la piattaforma </a:t>
            </a:r>
            <a:r>
              <a:rPr b="0" lang="it-IT" sz="2000" spc="-1" strike="noStrike" u="sng">
                <a:solidFill>
                  <a:srgbClr val="003399"/>
                </a:solidFill>
                <a:uFillTx/>
                <a:latin typeface="Arial"/>
              </a:rPr>
              <a:t>http://project.start-app.e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L’accesso è gratuito ma ti vie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 u="sng">
                <a:solidFill>
                  <a:srgbClr val="003399"/>
                </a:solidFill>
                <a:uFillTx/>
                <a:latin typeface="Arial"/>
              </a:rPr>
              <a:t>richiesta una registrazio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Immagine 3" descr=""/>
          <p:cNvPicPr/>
          <p:nvPr/>
        </p:nvPicPr>
        <p:blipFill>
          <a:blip r:embed="rId1"/>
          <a:stretch/>
        </p:blipFill>
        <p:spPr>
          <a:xfrm>
            <a:off x="5888160" y="3322800"/>
            <a:ext cx="2317680" cy="2620800"/>
          </a:xfrm>
          <a:prstGeom prst="rect">
            <a:avLst/>
          </a:prstGeom>
          <a:ln w="0">
            <a:noFill/>
          </a:ln>
        </p:spPr>
      </p:pic>
      <p:pic>
        <p:nvPicPr>
          <p:cNvPr id="82" name="Immagine 4" descr=""/>
          <p:cNvPicPr/>
          <p:nvPr/>
        </p:nvPicPr>
        <p:blipFill>
          <a:blip r:embed="rId2"/>
          <a:stretch/>
        </p:blipFill>
        <p:spPr>
          <a:xfrm>
            <a:off x="1908000" y="4346640"/>
            <a:ext cx="2749680" cy="2011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3"/>
          <a:stretch/>
        </p:blipFill>
        <p:spPr>
          <a:xfrm>
            <a:off x="7451640" y="836640"/>
            <a:ext cx="1546200" cy="15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468360" y="333360"/>
            <a:ext cx="8064360" cy="604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68360" y="316080"/>
            <a:ext cx="813744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Calibri"/>
              </a:rPr>
              <a:t>AFFIANCAMENTO E  MATERIALI DI SUPPOR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262699"/>
                </a:solidFill>
                <a:latin typeface="Arial"/>
              </a:rPr>
              <a:t>Puoi trovare materiali, informazioni, ed esercitazioni utili per lo sviluppo del tuo business pla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262699"/>
                </a:solidFill>
                <a:latin typeface="Arial"/>
              </a:rPr>
              <a:t>Dopo che ti sei registrato puoi accedere ai cors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262699"/>
                </a:solidFill>
                <a:latin typeface="Arial"/>
              </a:rPr>
              <a:t>Scegli la sezione </a:t>
            </a:r>
            <a:r>
              <a:rPr b="1" lang="it-IT" sz="2000" spc="-1" strike="noStrike" u="sng">
                <a:solidFill>
                  <a:srgbClr val="262699"/>
                </a:solidFill>
                <a:uFillTx/>
                <a:latin typeface="Arial"/>
              </a:rPr>
              <a:t>ROADMAP TO ENTERPR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262699"/>
                </a:solidFill>
                <a:latin typeface="Arial"/>
              </a:rPr>
              <a:t>Il percorso proposto segue l’indice del tuo </a:t>
            </a:r>
            <a:r>
              <a:rPr b="1" lang="it-IT" sz="2000" spc="-1" strike="noStrike">
                <a:solidFill>
                  <a:srgbClr val="c00000"/>
                </a:solidFill>
                <a:latin typeface="Arial"/>
              </a:rPr>
              <a:t>business plan</a:t>
            </a:r>
            <a:r>
              <a:rPr b="0" lang="it-IT" sz="2000" spc="-1" strike="noStrike">
                <a:solidFill>
                  <a:srgbClr val="262699"/>
                </a:solidFill>
                <a:latin typeface="Arial"/>
              </a:rPr>
              <a:t>, aiutandoti a focalizzarti prima sull’</a:t>
            </a:r>
            <a:r>
              <a:rPr b="1" lang="it-IT" sz="2000" spc="-1" strike="noStrike">
                <a:solidFill>
                  <a:srgbClr val="c00000"/>
                </a:solidFill>
                <a:latin typeface="Arial"/>
              </a:rPr>
              <a:t>idea</a:t>
            </a:r>
            <a:r>
              <a:rPr b="0" lang="it-IT" sz="2000" spc="-1" strike="noStrike">
                <a:solidFill>
                  <a:srgbClr val="262699"/>
                </a:solidFill>
                <a:latin typeface="Arial"/>
              </a:rPr>
              <a:t> e poi sullo sviluppo della stessa e della tua </a:t>
            </a:r>
            <a:r>
              <a:rPr b="1" lang="it-IT" sz="2000" spc="-1" strike="noStrike">
                <a:solidFill>
                  <a:srgbClr val="c00000"/>
                </a:solidFill>
                <a:latin typeface="Arial"/>
              </a:rPr>
              <a:t>impresa</a:t>
            </a:r>
            <a:r>
              <a:rPr b="0" lang="it-IT" sz="2000" spc="-1" strike="noStrike">
                <a:solidFill>
                  <a:srgbClr val="26269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262699"/>
                </a:solidFill>
                <a:latin typeface="Arial"/>
              </a:rPr>
              <a:t>Ad esempio trovi modelli di:  business plan, piano di marketing, piano di commercializzazione, analisi s.w.o.t., aspetti finanziari, et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262699"/>
                </a:solidFill>
                <a:latin typeface="Arial"/>
              </a:rPr>
              <a:t>Puoi guardare i video che ti spiegano come nasce e si sviluppa un’idea di impresa : preparation-perception-prototype-produ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Immagine 5" descr=""/>
          <p:cNvPicPr/>
          <p:nvPr/>
        </p:nvPicPr>
        <p:blipFill>
          <a:blip r:embed="rId1"/>
          <a:stretch/>
        </p:blipFill>
        <p:spPr>
          <a:xfrm>
            <a:off x="6632640" y="1773360"/>
            <a:ext cx="1682640" cy="963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2"/>
          <a:stretch/>
        </p:blipFill>
        <p:spPr>
          <a:xfrm>
            <a:off x="7840800" y="0"/>
            <a:ext cx="1265040" cy="13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25280" y="2649600"/>
            <a:ext cx="8642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4000" spc="-1" strike="noStrike">
                <a:solidFill>
                  <a:srgbClr val="000066"/>
                </a:solidFill>
                <a:latin typeface="Arial"/>
              </a:rPr>
              <a:t>Alcuni spunti sul concetto di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4000" spc="-1" strike="noStrike">
                <a:solidFill>
                  <a:srgbClr val="c00000"/>
                </a:solidFill>
                <a:latin typeface="Arial"/>
              </a:rPr>
              <a:t>«innovazione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24000" y="5734080"/>
            <a:ext cx="8424720" cy="1440"/>
          </a:xfrm>
          <a:prstGeom prst="line">
            <a:avLst/>
          </a:prstGeom>
          <a:ln w="284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>
            <a:off x="539640" y="2519280"/>
            <a:ext cx="8425080" cy="1800"/>
          </a:xfrm>
          <a:prstGeom prst="line">
            <a:avLst/>
          </a:prstGeom>
          <a:ln w="284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1"/>
          <a:stretch/>
        </p:blipFill>
        <p:spPr>
          <a:xfrm>
            <a:off x="3673440" y="573120"/>
            <a:ext cx="1546200" cy="1587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2"/>
          <a:stretch/>
        </p:blipFill>
        <p:spPr>
          <a:xfrm>
            <a:off x="1187280" y="6021360"/>
            <a:ext cx="7201080" cy="6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ttangolo 1"/>
          <p:cNvSpPr/>
          <p:nvPr/>
        </p:nvSpPr>
        <p:spPr>
          <a:xfrm>
            <a:off x="179280" y="333360"/>
            <a:ext cx="7561440" cy="57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c00000"/>
                </a:solidFill>
                <a:latin typeface="Calibri"/>
              </a:rPr>
              <a:t>INNOVAZIONE &amp; CREATIVITA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191966"/>
                </a:solidFill>
                <a:latin typeface="Calibri"/>
              </a:rPr>
              <a:t>Elaborazione o adozione di nuovi concetti o idee, e/o le stesse idee nuove o adottate, oppure il proficuo sfruttamento di tali ide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Calibri"/>
              </a:rPr>
              <a:t>La creatività è avere delle idee, l’innovazione ne è l’applicazion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191966"/>
                </a:solidFill>
                <a:latin typeface="Calibri"/>
              </a:rPr>
              <a:t>La creatività emerge unicamente quando l’innovatore prende l’idea e se ne serve per farne qualcosa. Un proficuo sfruttamento delle nuove idee può portare a qualsiasi forma di incremento di benefici organizzativi o social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Calibri"/>
              </a:rPr>
              <a:t>L'Innovazione è la dimensione applicativa di un'invenzione o di una scopert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191966"/>
                </a:solidFill>
                <a:latin typeface="Calibri"/>
              </a:rPr>
              <a:t>Innovazione e invenzione NON sono sinonimi: </a:t>
            </a:r>
            <a:r>
              <a:rPr b="1" lang="it-IT" sz="1800" spc="-1" strike="noStrike">
                <a:solidFill>
                  <a:srgbClr val="c00000"/>
                </a:solidFill>
                <a:latin typeface="Calibri"/>
              </a:rPr>
              <a:t>l’innovazione è l’estensione dell’invenzione.</a:t>
            </a:r>
            <a:r>
              <a:rPr b="0" lang="it-IT" sz="1800" spc="-1" strike="noStrike">
                <a:solidFill>
                  <a:srgbClr val="191966"/>
                </a:solidFill>
                <a:latin typeface="Calibri"/>
              </a:rPr>
              <a:t> Se un inventore realizza la “grande scoperta”, ma non trova qualcuno che sia disposto a produrla, essa rimane nascosta (ad esempio negli archivi brevettuali) e non disponibile a potenziali fruitori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" descr="C:\Program Files\Microsoft Office\MEDIA\CAGCAT10\j0297707.wmf"/>
          <p:cNvPicPr/>
          <p:nvPr/>
        </p:nvPicPr>
        <p:blipFill>
          <a:blip r:embed="rId1"/>
          <a:stretch/>
        </p:blipFill>
        <p:spPr>
          <a:xfrm>
            <a:off x="7523280" y="334800"/>
            <a:ext cx="1407960" cy="1731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2"/>
          <a:stretch/>
        </p:blipFill>
        <p:spPr>
          <a:xfrm>
            <a:off x="7454880" y="2195640"/>
            <a:ext cx="1546200" cy="158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ttangolo 1"/>
          <p:cNvSpPr/>
          <p:nvPr/>
        </p:nvSpPr>
        <p:spPr>
          <a:xfrm>
            <a:off x="179280" y="333360"/>
            <a:ext cx="875196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c00000"/>
                </a:solidFill>
                <a:latin typeface="Calibri"/>
              </a:rPr>
              <a:t>…</a:t>
            </a:r>
            <a:r>
              <a:rPr b="1" lang="it-IT" sz="3200" spc="-1" strike="noStrike">
                <a:solidFill>
                  <a:srgbClr val="c00000"/>
                </a:solidFill>
                <a:latin typeface="Calibri"/>
              </a:rPr>
              <a:t>QUANTI TIPI DI INNOVAZION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INNOVAZIONE TECNOLO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191966"/>
                </a:solidFill>
                <a:latin typeface="Calibri"/>
              </a:rPr>
              <a:t>INNOVAZIONE DI PROCES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191966"/>
                </a:solidFill>
                <a:latin typeface="Calibri"/>
              </a:rPr>
              <a:t>Esempio: il codice a barre ha portato innovazioni in gestione logistic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191966"/>
                </a:solidFill>
                <a:latin typeface="Calibri"/>
              </a:rPr>
              <a:t>INNOVAZIONE DI PRODOT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191966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191966"/>
                </a:solidFill>
                <a:latin typeface="Calibri"/>
              </a:rPr>
              <a:t>Esempio: invenzione del telefono cellul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INNOVAZIONI ORGANIZZ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191966"/>
                </a:solidFill>
                <a:latin typeface="Calibri"/>
              </a:rPr>
              <a:t>Esempio: quando all’interno di un’organizzazione, vengono inserite nuove pratiche lavorative come la flessibilità, il telelavoro, etc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INNOVAZIONI STRATEGI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191966"/>
                </a:solidFill>
                <a:latin typeface="Calibri"/>
              </a:rPr>
              <a:t>Esempio: i voli low cost di Ryanair o i mobili Ikea (cambia rapporto qualità-prezz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2" descr="C:\Program Files\Microsoft Office\MEDIA\CAGCAT10\j0297707.wmf"/>
          <p:cNvPicPr/>
          <p:nvPr/>
        </p:nvPicPr>
        <p:blipFill>
          <a:blip r:embed="rId1"/>
          <a:stretch/>
        </p:blipFill>
        <p:spPr>
          <a:xfrm>
            <a:off x="7523280" y="334800"/>
            <a:ext cx="1407960" cy="1731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2"/>
          <a:stretch/>
        </p:blipFill>
        <p:spPr>
          <a:xfrm>
            <a:off x="7454880" y="2195640"/>
            <a:ext cx="1546200" cy="158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ttangolo 1"/>
          <p:cNvSpPr/>
          <p:nvPr/>
        </p:nvSpPr>
        <p:spPr>
          <a:xfrm>
            <a:off x="539640" y="115920"/>
            <a:ext cx="64803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c00000"/>
                </a:solidFill>
                <a:latin typeface="Calibri"/>
              </a:rPr>
              <a:t>…</a:t>
            </a:r>
            <a:r>
              <a:rPr b="1" lang="it-IT" sz="3200" spc="-1" strike="noStrike">
                <a:solidFill>
                  <a:srgbClr val="c00000"/>
                </a:solidFill>
                <a:latin typeface="Calibri"/>
              </a:rPr>
              <a:t>QUALE INNOVAZIONE NEL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c00000"/>
                </a:solidFill>
                <a:latin typeface="Calibri"/>
              </a:rPr>
              <a:t>IDEE DI IMPRESA DI ENTERPRI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Diagramma 3" descr=""/>
          <p:cNvPicPr/>
          <p:nvPr/>
        </p:nvPicPr>
        <p:blipFill>
          <a:blip r:embed="rId1"/>
          <a:stretch/>
        </p:blipFill>
        <p:spPr>
          <a:xfrm>
            <a:off x="311040" y="2120760"/>
            <a:ext cx="6791400" cy="4200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"/>
          <p:cNvPicPr/>
          <p:nvPr/>
        </p:nvPicPr>
        <p:blipFill>
          <a:blip r:embed="rId2"/>
          <a:stretch/>
        </p:blipFill>
        <p:spPr>
          <a:xfrm>
            <a:off x="7454880" y="2195640"/>
            <a:ext cx="1546200" cy="1587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Program Files\Microsoft Office\MEDIA\CAGCAT10\j0297707.wmf"/>
          <p:cNvPicPr/>
          <p:nvPr/>
        </p:nvPicPr>
        <p:blipFill>
          <a:blip r:embed="rId3"/>
          <a:stretch/>
        </p:blipFill>
        <p:spPr>
          <a:xfrm>
            <a:off x="7523280" y="334800"/>
            <a:ext cx="1407960" cy="17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539640" y="282600"/>
            <a:ext cx="8064720" cy="604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826920" y="437760"/>
            <a:ext cx="749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191966"/>
                </a:solidFill>
                <a:latin typeface="Calibri"/>
              </a:rPr>
              <a:t> </a:t>
            </a:r>
            <a:r>
              <a:rPr b="0" lang="it-IT" sz="24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enterprise-ebg.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ff3300"/>
                </a:solidFill>
                <a:latin typeface="Calibri"/>
              </a:rPr>
              <a:t>Scarica dal sito EB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ff3300"/>
                </a:solidFill>
                <a:latin typeface="Calibri"/>
              </a:rPr>
              <a:t>la guida per pensare la tua idea d’impresa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614680" y="1844640"/>
            <a:ext cx="3608280" cy="428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Picture 8" descr=""/>
          <p:cNvPicPr/>
          <p:nvPr/>
        </p:nvPicPr>
        <p:blipFill>
          <a:blip r:embed="rId3"/>
          <a:stretch/>
        </p:blipFill>
        <p:spPr>
          <a:xfrm>
            <a:off x="7840800" y="0"/>
            <a:ext cx="1265040" cy="13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755640" y="2637000"/>
            <a:ext cx="7920000" cy="37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6000" spc="-1" strike="noStrike">
                <a:solidFill>
                  <a:srgbClr val="000066"/>
                </a:solidFill>
                <a:latin typeface="Century Gothic"/>
              </a:rPr>
              <a:t>Phil Taylo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800" spc="-1" strike="noStrike">
                <a:solidFill>
                  <a:srgbClr val="000066"/>
                </a:solidFill>
                <a:latin typeface="Century Gothic"/>
              </a:rPr>
              <a:t>consul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324000" y="5734080"/>
            <a:ext cx="8424720" cy="1440"/>
          </a:xfrm>
          <a:prstGeom prst="line">
            <a:avLst/>
          </a:prstGeom>
          <a:ln w="284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3494160" y="360360"/>
            <a:ext cx="1546200" cy="1587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2"/>
          <a:stretch/>
        </p:blipFill>
        <p:spPr>
          <a:xfrm>
            <a:off x="1187280" y="6021360"/>
            <a:ext cx="7201080" cy="6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6"/>
          <p:cNvSpPr/>
          <p:nvPr/>
        </p:nvSpPr>
        <p:spPr>
          <a:xfrm>
            <a:off x="324000" y="5734080"/>
            <a:ext cx="8424720" cy="1440"/>
          </a:xfrm>
          <a:prstGeom prst="line">
            <a:avLst/>
          </a:prstGeom>
          <a:ln w="284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7"/>
          <p:cNvSpPr/>
          <p:nvPr/>
        </p:nvSpPr>
        <p:spPr>
          <a:xfrm>
            <a:off x="422280" y="2060640"/>
            <a:ext cx="8424720" cy="1440"/>
          </a:xfrm>
          <a:prstGeom prst="line">
            <a:avLst/>
          </a:prstGeom>
          <a:ln w="284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/>
          <a:stretch/>
        </p:blipFill>
        <p:spPr>
          <a:xfrm>
            <a:off x="3924360" y="203040"/>
            <a:ext cx="1546200" cy="1587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1187280" y="6021360"/>
            <a:ext cx="7201080" cy="639720"/>
          </a:xfrm>
          <a:prstGeom prst="rect">
            <a:avLst/>
          </a:prstGeom>
          <a:ln w="0">
            <a:noFill/>
          </a:ln>
        </p:spPr>
      </p:pic>
      <p:sp>
        <p:nvSpPr>
          <p:cNvPr id="57" name="Rettangolo 1"/>
          <p:cNvSpPr/>
          <p:nvPr/>
        </p:nvSpPr>
        <p:spPr>
          <a:xfrm>
            <a:off x="422280" y="2276640"/>
            <a:ext cx="8182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c00000"/>
                </a:solidFill>
                <a:latin typeface="Calibri"/>
              </a:rPr>
              <a:t>«Qualunque cosa tu possa far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c00000"/>
                </a:solidFill>
                <a:latin typeface="Calibri"/>
              </a:rPr>
              <a:t>o sognare di fare, incomincial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c00000"/>
                </a:solidFill>
                <a:latin typeface="Calibri"/>
              </a:rPr>
              <a:t>L'audacia ha in sé genio, potere e magia. Incomincia adesso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3200" spc="-1" strike="noStrike">
                <a:solidFill>
                  <a:srgbClr val="c00000"/>
                </a:solidFill>
                <a:latin typeface="Calibri"/>
              </a:rPr>
              <a:t>(J.W. Goeth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395280" y="620640"/>
            <a:ext cx="813744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611280" y="1052640"/>
            <a:ext cx="77058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800" spc="-1" strike="noStrike">
                <a:solidFill>
                  <a:srgbClr val="ff3300"/>
                </a:solidFill>
                <a:latin typeface="Calibri"/>
              </a:rPr>
              <a:t>LE SCUOLE PARTECIPANTI DEL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800" spc="-1" strike="noStrike">
                <a:solidFill>
                  <a:srgbClr val="ff3300"/>
                </a:solidFill>
                <a:latin typeface="Calibri"/>
              </a:rPr>
              <a:t>PROVINCIA DI RAVEN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alibri"/>
              </a:rPr>
              <a:t>Liceo Classico “Alighieri” </a:t>
            </a:r>
            <a:r>
              <a:rPr b="0" i="1" lang="it-IT" sz="2400" spc="-1" strike="noStrike">
                <a:solidFill>
                  <a:srgbClr val="333399"/>
                </a:solidFill>
                <a:latin typeface="Calibri"/>
              </a:rPr>
              <a:t>Raven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alibri"/>
              </a:rPr>
              <a:t>ITCG “Oriani” </a:t>
            </a:r>
            <a:r>
              <a:rPr b="0" i="1" lang="it-IT" sz="2400" spc="-1" strike="noStrike">
                <a:solidFill>
                  <a:srgbClr val="333399"/>
                </a:solidFill>
                <a:latin typeface="Calibri"/>
              </a:rPr>
              <a:t>Faenza (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333399"/>
                </a:solidFill>
                <a:latin typeface="Calibri"/>
              </a:rPr>
              <a:t>Liceo Scientifico “Torricelli” </a:t>
            </a:r>
            <a:r>
              <a:rPr b="0" i="1" lang="it-IT" sz="2400" spc="-1" strike="noStrike">
                <a:solidFill>
                  <a:srgbClr val="333399"/>
                </a:solidFill>
                <a:latin typeface="Calibri"/>
              </a:rPr>
              <a:t>Faenza (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333399"/>
                </a:solidFill>
                <a:latin typeface="Calibri"/>
              </a:rPr>
              <a:t>ITIP “L.Bucci”</a:t>
            </a:r>
            <a:r>
              <a:rPr b="1" lang="it-IT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i="1" lang="it-IT" sz="2400" spc="-1" strike="noStrike">
                <a:solidFill>
                  <a:srgbClr val="333399"/>
                </a:solidFill>
                <a:latin typeface="Calibri"/>
              </a:rPr>
              <a:t>Faenza (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it-IT" sz="2400" spc="-1" strike="noStrike">
                <a:solidFill>
                  <a:srgbClr val="333399"/>
                </a:solidFill>
                <a:latin typeface="Calibri"/>
              </a:rPr>
              <a:t>Circa 200 STUD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1"/>
          <a:stretch/>
        </p:blipFill>
        <p:spPr>
          <a:xfrm>
            <a:off x="7412040" y="115920"/>
            <a:ext cx="1546200" cy="15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rcRect l="3346" t="2004" r="35247" b="60996"/>
          <a:stretch/>
        </p:blipFill>
        <p:spPr>
          <a:xfrm>
            <a:off x="0" y="0"/>
            <a:ext cx="9144000" cy="69404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395280" y="620640"/>
            <a:ext cx="813744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611280" y="692280"/>
            <a:ext cx="770580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800" spc="-1" strike="noStrike">
                <a:solidFill>
                  <a:srgbClr val="333399"/>
                </a:solidFill>
                <a:latin typeface="Calibri"/>
              </a:rPr>
              <a:t>IL PERCOR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ff3300"/>
                </a:solidFill>
                <a:latin typeface="Calibri"/>
              </a:rPr>
              <a:t>DA NOVEMBRE 2016 A FEBBRAIO 2017: SVILUPPO PROGET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“</a:t>
            </a: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La mia idea è …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Selezione delle id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Creazione dei gruppi di lavo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Spiegazione dell’idea, definizione del nome e del 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Traduzione in inglese e inserimento nel sito web di proget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Definizione dell’organigramma aziend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Analisi della concorren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Ricerca di merc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2"/>
          <a:stretch/>
        </p:blipFill>
        <p:spPr>
          <a:xfrm>
            <a:off x="7308720" y="115920"/>
            <a:ext cx="1546200" cy="15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395280" y="260280"/>
            <a:ext cx="8137440" cy="619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684360" y="244440"/>
            <a:ext cx="770544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800" spc="-1" strike="noStrike">
                <a:solidFill>
                  <a:srgbClr val="333399"/>
                </a:solidFill>
                <a:latin typeface="Calibri"/>
              </a:rPr>
              <a:t>IL PERCOR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Arial"/>
              </a:rPr>
              <a:t>DA MARZO AD APRILE 2017: SVILUPPO PROGET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- Scelta del tipo di societ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Definizione dell’ iter burocratico e dell’ubicazione aziend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Analisi delle strategie di merc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Stesura di un bilancio di previsione trienn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Definizione del Fabbisogno finanzia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Preparazione della presentazione del proprio business pl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Arial"/>
              </a:rPr>
              <a:t>FINE APRILE 2017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Arial"/>
              </a:rPr>
              <a:t>CONSEGNA PROGET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8" descr=""/>
          <p:cNvPicPr/>
          <p:nvPr/>
        </p:nvPicPr>
        <p:blipFill>
          <a:blip r:embed="rId1"/>
          <a:stretch/>
        </p:blipFill>
        <p:spPr>
          <a:xfrm>
            <a:off x="7308720" y="115920"/>
            <a:ext cx="1546200" cy="1587600"/>
          </a:xfrm>
          <a:prstGeom prst="rect">
            <a:avLst/>
          </a:prstGeom>
          <a:ln w="0">
            <a:noFill/>
          </a:ln>
        </p:spPr>
      </p:pic>
      <p:pic>
        <p:nvPicPr>
          <p:cNvPr id="68" name="Immagine 7" descr=""/>
          <p:cNvPicPr/>
          <p:nvPr/>
        </p:nvPicPr>
        <p:blipFill>
          <a:blip r:embed="rId2"/>
          <a:stretch/>
        </p:blipFill>
        <p:spPr>
          <a:xfrm>
            <a:off x="4535640" y="3809880"/>
            <a:ext cx="4174920" cy="25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395280" y="260280"/>
            <a:ext cx="8137440" cy="619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684360" y="244440"/>
            <a:ext cx="7705440" cy="53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800" spc="-1" strike="noStrike">
                <a:solidFill>
                  <a:srgbClr val="333399"/>
                </a:solidFill>
                <a:latin typeface="Calibri"/>
              </a:rPr>
              <a:t>LE FIN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Arial"/>
              </a:rPr>
              <a:t>MAGGIO 2017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Semifinali provincia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Finale Naziona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Arial"/>
              </a:rPr>
              <a:t>FINE GIUGNO 2017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La squadra vincitrice partecipa alla Finale Europea insieme alle squadre finaliste di tutti i paesi partecipanti…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Calibri"/>
              </a:rPr>
              <a:t>NEL 2017  LA FINALE EUROPEA SARA’ IN UNO DE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Calibri"/>
              </a:rPr>
              <a:t>PAESI EUROPEI PARTN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Calibri"/>
              </a:rPr>
              <a:t>MEETING EUROPEO CON 60 STUDENTI PROVENIENTI DAI PAESI PARTECIPAN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8" descr=""/>
          <p:cNvPicPr/>
          <p:nvPr/>
        </p:nvPicPr>
        <p:blipFill>
          <a:blip r:embed="rId1"/>
          <a:stretch/>
        </p:blipFill>
        <p:spPr>
          <a:xfrm>
            <a:off x="7308720" y="115920"/>
            <a:ext cx="1546200" cy="15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468360" y="333360"/>
            <a:ext cx="8064360" cy="604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376200" y="287280"/>
            <a:ext cx="815652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Calibri"/>
              </a:rPr>
              <a:t>AFFIANCAMENTO E  MATERIALI DI SUPPOR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- Docenti della scuo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- Personale e docenti di Cna per la Scuo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Imprenditori “mentor” che affiancano il gruppo clas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Sportelli degli uffici Cna del territo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Seminari temati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ff3300"/>
                </a:solidFill>
                <a:latin typeface="Calibri"/>
              </a:rPr>
              <a:t>MANUALE DELLO STUDENTE </a:t>
            </a: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con tutti gli step del percor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ff3300"/>
                </a:solidFill>
                <a:latin typeface="Calibri"/>
              </a:rPr>
              <a:t>SITO WEB DI PROGETTO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</a:rPr>
              <a:t>www.enterprise-ebg.e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Sul sito sarà possibile trovare l’elenco delle scuole partecipanti italiane ed estere, le idee di tutte le squadre partecipanti per potere creare joint-venture, i progetti vincitori della finale italiana ed europea del precedente anno scolastic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 u="sng">
                <a:solidFill>
                  <a:srgbClr val="333399"/>
                </a:solidFill>
                <a:uFillTx/>
                <a:latin typeface="Calibri"/>
              </a:rPr>
              <a:t>Ogni squadra italiana ed europea caricherà sul sito la propria idea di impresa (sarà consegnata password di accesso) e proposta di joint ven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ff3300"/>
                </a:solidFill>
                <a:latin typeface="Calibri"/>
              </a:rPr>
              <a:t>STRUMENTI ON LINE </a:t>
            </a: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 App on line  e strumenti sul sito we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7451640" y="836640"/>
            <a:ext cx="1546200" cy="15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ttangolo 1"/>
          <p:cNvSpPr/>
          <p:nvPr/>
        </p:nvSpPr>
        <p:spPr>
          <a:xfrm>
            <a:off x="1627200" y="260280"/>
            <a:ext cx="5850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400" spc="-1" strike="noStrike" u="sng">
                <a:solidFill>
                  <a:srgbClr val="262699"/>
                </a:solidFill>
                <a:uFillTx/>
                <a:latin typeface="Calibri"/>
              </a:rPr>
              <a:t>www.enterprise-ebg.eu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319960" cy="467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8321760" cy="4678560"/>
          </a:xfrm>
          <a:prstGeom prst="rect">
            <a:avLst/>
          </a:prstGeom>
          <a:ln w="0">
            <a:noFill/>
          </a:ln>
        </p:spPr>
      </p:pic>
      <p:sp>
        <p:nvSpPr>
          <p:cNvPr id="78" name="Rettangolo 1"/>
          <p:cNvSpPr/>
          <p:nvPr/>
        </p:nvSpPr>
        <p:spPr>
          <a:xfrm>
            <a:off x="1627200" y="260280"/>
            <a:ext cx="5850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400" spc="-1" strike="noStrike" u="sng">
                <a:solidFill>
                  <a:srgbClr val="262699"/>
                </a:solidFill>
                <a:uFillTx/>
                <a:latin typeface="Calibri"/>
              </a:rPr>
              <a:t>www.enterprise-ebg.eu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8:23:54Z</dcterms:created>
  <dc:creator>fscalini</dc:creator>
  <dc:description/>
  <dc:language>en-US</dc:language>
  <cp:lastModifiedBy>Suprani Stefania</cp:lastModifiedBy>
  <dcterms:modified xsi:type="dcterms:W3CDTF">2016-11-02T08:17:56Z</dcterms:modified>
  <cp:revision>69</cp:revision>
  <dc:subject/>
  <dc:title>Diapositiva 1</dc:title>
</cp:coreProperties>
</file>