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B1AF52-7886-4B11-9DBC-CED9683D64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09EE89-A36D-4E7B-96A6-BFD61E201B8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A85E05-8B0D-43D4-87A4-100B00EC3E9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573C99-141C-4526-9DF2-21500481468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9C8E5E-65C3-4F17-99CB-19E74C49A68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EAA77F-C428-4ED4-A90B-4B870E89759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A40BF0-1791-4B47-AB1F-4BBB123F97D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E68C18-F15F-463C-82C0-1B28FA28F0D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071EE3-B0B1-423D-A13F-E93A28BB35F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551F6B-679B-4C2C-8D8F-7B5CC2B1BD9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9A304E-11B6-4254-A929-FEFAFABBC83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641E64-A98A-407D-8B69-3988869F5CB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B93871-C8D7-4A96-8B35-C5F66F571CA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F63472-5A48-480E-9111-A06F1F7DC39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B5E26C-15C9-4563-8020-CEEEE76A5A7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724346-7AA3-49AC-B1C1-B240350411E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F42062-A010-4363-BACE-8635C9BD22E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3655AE-AC19-4748-A652-5D432B4D412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B956-DA5C-4DF1-98EC-89035CF66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E397-916E-4CCF-ADCE-F5297A126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0EF4-686F-4EC5-BB11-333D1468A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C6FB-A46A-49A4-9EFC-6CFC71236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F954-3037-49F8-B693-A66CFE938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74A8-D62D-4A99-9530-1D5B65210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72EF-871B-4F38-930E-380DB0F84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C848-16E1-44FE-90DB-2849F1522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06EC-F1EF-4695-86C3-7837D47CF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AFCF-28E0-4877-A4E8-BC0ADA944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2128-3CB9-431C-8782-5CEC23C77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31CD-90FC-43BA-A76F-9AC649D11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1FA8B-CF08-450D-9AB4-1299785E6CB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terprise-ebg.eu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755640" y="2637000"/>
            <a:ext cx="7920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ENTERPRISE EBG – EUROPEAN BUSINESS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SEMINARIO DI AVV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Faenza, 5 novembre 20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3494160" y="36036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11280" y="392040"/>
            <a:ext cx="7705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 u="sng">
                <a:solidFill>
                  <a:srgbClr val="262699"/>
                </a:solidFill>
                <a:uFillTx/>
                <a:latin typeface="Arial"/>
              </a:rPr>
              <a:t>Scarica la APP di St-art App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Vai sull’App-store di Ios o Andro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cerca e scarica la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APP GRATUITA di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St-art app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In alternativa puoi accedere ai contenuti tramite la piattaforma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Arial"/>
              </a:rPr>
              <a:t>http://project.start-app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L’accesso è gratuito ma ti vie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3399"/>
                </a:solidFill>
                <a:uFillTx/>
                <a:latin typeface="Arial"/>
              </a:rPr>
              <a:t>richiesta una registr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Immagine 3" descr=""/>
          <p:cNvPicPr/>
          <p:nvPr/>
        </p:nvPicPr>
        <p:blipFill>
          <a:blip r:embed="rId1"/>
          <a:stretch/>
        </p:blipFill>
        <p:spPr>
          <a:xfrm>
            <a:off x="5888160" y="3322800"/>
            <a:ext cx="2317680" cy="2620800"/>
          </a:xfrm>
          <a:prstGeom prst="rect">
            <a:avLst/>
          </a:prstGeom>
          <a:ln w="0">
            <a:noFill/>
          </a:ln>
        </p:spPr>
      </p:pic>
      <p:pic>
        <p:nvPicPr>
          <p:cNvPr id="82" name="Immagine 4" descr=""/>
          <p:cNvPicPr/>
          <p:nvPr/>
        </p:nvPicPr>
        <p:blipFill>
          <a:blip r:embed="rId2"/>
          <a:stretch/>
        </p:blipFill>
        <p:spPr>
          <a:xfrm>
            <a:off x="1908000" y="4346640"/>
            <a:ext cx="2749680" cy="201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7451640" y="83664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68360" y="316080"/>
            <a:ext cx="81374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Puoi trovare materiali, informazioni, ed esercitazioni utili per lo sviluppo del tuo business p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Dopo che ti sei registrato puoi accedere ai cors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Scegli la sezione </a:t>
            </a:r>
            <a:r>
              <a:rPr b="1" lang="it-IT" sz="2000" spc="-1" strike="noStrike" u="sng">
                <a:solidFill>
                  <a:srgbClr val="262699"/>
                </a:solidFill>
                <a:uFillTx/>
                <a:latin typeface="Arial"/>
              </a:rPr>
              <a:t>ROADMAP TO ENTER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Il percorso proposto segue l’indice del tuo 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business plan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, aiutandoti a focalizzarti prima sull’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idea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 e poi sullo sviluppo della stessa e della tua </a:t>
            </a: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impresa</a:t>
            </a: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Ad esempio trovi modelli di:  business plan, piano di marketing, piano di commercializzazione, analisi s.w.o.t., aspetti finanziari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262699"/>
                </a:solidFill>
                <a:latin typeface="Arial"/>
              </a:rPr>
              <a:t>Puoi guardare i video che ti spiegano come nasce e si sviluppa un’idea di impresa : preparation-perception-prototype-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Immagine 5" descr=""/>
          <p:cNvPicPr/>
          <p:nvPr/>
        </p:nvPicPr>
        <p:blipFill>
          <a:blip r:embed="rId1"/>
          <a:stretch/>
        </p:blipFill>
        <p:spPr>
          <a:xfrm>
            <a:off x="6632640" y="1773360"/>
            <a:ext cx="1682640" cy="96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840800" y="0"/>
            <a:ext cx="126504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5280" y="2649600"/>
            <a:ext cx="864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Alcuni spunti sul concetto d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c00000"/>
                </a:solidFill>
                <a:latin typeface="Arial"/>
              </a:rPr>
              <a:t>«innovazione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539640" y="2519280"/>
            <a:ext cx="8425080" cy="18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673440" y="57312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tangolo 1"/>
          <p:cNvSpPr/>
          <p:nvPr/>
        </p:nvSpPr>
        <p:spPr>
          <a:xfrm>
            <a:off x="179280" y="333360"/>
            <a:ext cx="756144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INNOVAZIONE &amp; CREATIVIT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laborazione o adozione di nuovi concetti o idee, e/o le stesse idee nuove o adottate, oppure il proficuo sfruttamento di tali ide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a creatività è avere delle idee, l’innovazione ne è l’applicazio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La creatività emerge unicamente quando l’innovatore prende l’idea e se ne serve per farne qualcosa. Un proficuo sfruttamento delle nuove idee può portare a qualsiasi forma di incremento di benefici organizzativi o soci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'Innovazione è la dimensione applicativa di un'invenzione o di una scoper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Innovazione e invenzione NON sono sinonimi: </a:t>
            </a: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l’innovazione è l’estensione dell’invenzione.</a:t>
            </a: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 Se un inventore realizza la “grande scoperta”, ma non trova qualcuno che sia disposto a produrla, essa rimane nascosta (ad esempio negli archivi brevettuali) e non disponibile a potenziali fruitor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tangolo 1"/>
          <p:cNvSpPr/>
          <p:nvPr/>
        </p:nvSpPr>
        <p:spPr>
          <a:xfrm>
            <a:off x="179280" y="333360"/>
            <a:ext cx="8751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…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QUANTI TIPI DI INNOVAZI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NOVAZIONE TECNOLO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91966"/>
                </a:solidFill>
                <a:latin typeface="Calibri"/>
              </a:rPr>
              <a:t>INNOVAZIONE DI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il codice a barre ha portato innovazioni in gestione logis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91966"/>
                </a:solidFill>
                <a:latin typeface="Calibri"/>
              </a:rPr>
              <a:t>INNOVAZIONE DI PRODO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191966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191966"/>
                </a:solidFill>
                <a:latin typeface="Calibri"/>
              </a:rPr>
              <a:t>Esempio: invenzione del telefono cellul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INNOVAZIONI ORGANIZZ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quando all’interno di un’organizzazione, vengono inserite nuove pratiche lavorative come la flessibilità, il telelavoro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NOVAZIONI STRATEG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191966"/>
                </a:solidFill>
                <a:latin typeface="Calibri"/>
              </a:rPr>
              <a:t>Esempio: i voli low cost di Ryanair o i mobili Ikea (cambia rapporto qualità-prezz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tangolo 1"/>
          <p:cNvSpPr/>
          <p:nvPr/>
        </p:nvSpPr>
        <p:spPr>
          <a:xfrm>
            <a:off x="539640" y="115920"/>
            <a:ext cx="6480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…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QUALE INNOVAZIONE NEL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IDEE DI IMPRESA DI ENTERPR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Diagramma 3" descr=""/>
          <p:cNvPicPr/>
          <p:nvPr/>
        </p:nvPicPr>
        <p:blipFill>
          <a:blip r:embed="rId1"/>
          <a:stretch/>
        </p:blipFill>
        <p:spPr>
          <a:xfrm>
            <a:off x="311040" y="2120760"/>
            <a:ext cx="6791400" cy="42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7454880" y="2195640"/>
            <a:ext cx="1546200" cy="158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Program Files\Microsoft Office\MEDIA\CAGCAT10\j0297707.wmf"/>
          <p:cNvPicPr/>
          <p:nvPr/>
        </p:nvPicPr>
        <p:blipFill>
          <a:blip r:embed="rId3"/>
          <a:stretch/>
        </p:blipFill>
        <p:spPr>
          <a:xfrm>
            <a:off x="7523280" y="334800"/>
            <a:ext cx="14079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539640" y="282600"/>
            <a:ext cx="806472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437760"/>
            <a:ext cx="749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191966"/>
                </a:solidFill>
                <a:latin typeface="Calibri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enterprise-ebg.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alibri"/>
              </a:rPr>
              <a:t>Scarica dal sito EB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alibri"/>
              </a:rPr>
              <a:t>la guida per pensare la tua idea d’impres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4680" y="1844640"/>
            <a:ext cx="3608280" cy="428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7840800" y="0"/>
            <a:ext cx="126504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55640" y="2637000"/>
            <a:ext cx="7920000" cy="37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6000" spc="-1" strike="noStrike">
                <a:solidFill>
                  <a:srgbClr val="000066"/>
                </a:solidFill>
                <a:latin typeface="Century Gothic"/>
              </a:rPr>
              <a:t>Phil Tayl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000066"/>
                </a:solidFill>
                <a:latin typeface="Century Gothic"/>
              </a:rPr>
              <a:t>consul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3494160" y="36036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6"/>
          <p:cNvSpPr/>
          <p:nvPr/>
        </p:nvSpPr>
        <p:spPr>
          <a:xfrm>
            <a:off x="324000" y="573408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22280" y="2060640"/>
            <a:ext cx="8424720" cy="14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924360" y="20304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7201080" cy="63972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1"/>
          <p:cNvSpPr/>
          <p:nvPr/>
        </p:nvSpPr>
        <p:spPr>
          <a:xfrm>
            <a:off x="422280" y="2276640"/>
            <a:ext cx="81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«Qualunque cosa tu possa fa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o sognare di fare, incomincia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L'audacia ha in sé genio, potere e magia. Incomincia adesso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200" spc="-1" strike="noStrike">
                <a:solidFill>
                  <a:srgbClr val="c00000"/>
                </a:solidFill>
                <a:latin typeface="Calibri"/>
              </a:rPr>
              <a:t>(J.W. Goet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95280" y="620640"/>
            <a:ext cx="8137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11280" y="1052640"/>
            <a:ext cx="7705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Calibri"/>
              </a:rPr>
              <a:t>LE SCUOLE PARTECIPANTI D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Calibri"/>
              </a:rPr>
              <a:t>PROVINCIA DI RAVEN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Liceo Classico “Alighier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Rave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ITCG “Orian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Liceo Scientifico “Torricelli”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ITIP “L.Bucci”</a:t>
            </a:r>
            <a:r>
              <a:rPr b="1" lang="it-IT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Faenza (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it-IT" sz="2400" spc="-1" strike="noStrike">
                <a:solidFill>
                  <a:srgbClr val="333399"/>
                </a:solidFill>
                <a:latin typeface="Calibri"/>
              </a:rPr>
              <a:t>Circa 200 STUD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741204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rcRect l="3346" t="2004" r="35247" b="60996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95280" y="620640"/>
            <a:ext cx="8137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692280"/>
            <a:ext cx="7705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IL PERCO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DA NOVEMBRE 2016 A FEBBRAIO 2017: SVILUPPO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La mia idea è …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lezione delle id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Creazione dei gruppi di lav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piegazione dell’idea, definizione del nome e del 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Traduzione in inglese e inserimento nel sito web di proge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l’organigramma azien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Analisi della concorr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Ricerca di merc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95280" y="260280"/>
            <a:ext cx="8137440" cy="619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84360" y="244440"/>
            <a:ext cx="770544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IL PERCO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DA MARZO AD APRILE 2017: SVILUPPO PROGE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Scelta del tipo di socie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l’ iter burocratico e dell’ubicazione azien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Analisi delle strategie di merc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tesura di un bilancio di previsione trien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Definizione del Fabbisogno finanzi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Preparazione della presentazione del proprio busines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FINE APRILE 2017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CONSEGNA PROGE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7" descr=""/>
          <p:cNvPicPr/>
          <p:nvPr/>
        </p:nvPicPr>
        <p:blipFill>
          <a:blip r:embed="rId2"/>
          <a:stretch/>
        </p:blipFill>
        <p:spPr>
          <a:xfrm>
            <a:off x="4535640" y="3809880"/>
            <a:ext cx="4174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260280"/>
            <a:ext cx="8137440" cy="619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84360" y="244440"/>
            <a:ext cx="770544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alibri"/>
              </a:rPr>
              <a:t>LE FI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MAGGIO 2017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mifinali provinci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Finale Naziona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FINE GIUGNO 2017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La squadra vincitrice partecipa alla Finale Europea insieme alle squadre finaliste di tutti i paesi partecipanti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NEL 2017  LA FINALE EUROPEA SARA’ IN UNO DE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PAESI EUROPEI PARTN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alibri"/>
              </a:rPr>
              <a:t>MEETING EUROPEO CON 60 STUDENTI PROVENIENTI DAI PAESI PARTECIPA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468360" y="333360"/>
            <a:ext cx="806436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76200" y="287280"/>
            <a:ext cx="81565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FFIANCAMENTO E  MATERIALI DI SUP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Docenti della scu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- Personale e docenti di Cna per la Scu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Imprenditori “mentor” che affiancano il gruppo cla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portelli degli uffici Cna del terri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eminari tema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MANUALE DELLO STUDENTE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con tutti gli step del perco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SITO WEB DI PROGETT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www.enterprise-ebg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Sul sito sarà possibile trovare l’elenco delle scuole partecipanti italiane ed estere, le idee di tutte le squadre partecipanti per potere creare joint-venture, i progetti vincitori della finale italiana ed europea del precedente anno scolas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333399"/>
                </a:solidFill>
                <a:uFillTx/>
                <a:latin typeface="Calibri"/>
              </a:rPr>
              <a:t>Ogni squadra italiana ed europea caricherà sul sito la propria idea di impresa (sarà consegnata password di accesso) e proposta di joint ven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alibri"/>
              </a:rPr>
              <a:t>STRUMENTI ON LINE </a:t>
            </a:r>
            <a:r>
              <a:rPr b="0" lang="it-IT" sz="2000" spc="-1" strike="noStrike">
                <a:solidFill>
                  <a:srgbClr val="333399"/>
                </a:solidFill>
                <a:latin typeface="Calibri"/>
              </a:rPr>
              <a:t> App on line  e strumenti sul sito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54620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tangolo 1"/>
          <p:cNvSpPr/>
          <p:nvPr/>
        </p:nvSpPr>
        <p:spPr>
          <a:xfrm>
            <a:off x="1627200" y="260280"/>
            <a:ext cx="585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262699"/>
                </a:solidFill>
                <a:uFillTx/>
                <a:latin typeface="Calibri"/>
              </a:rPr>
              <a:t>www.enterprise-ebg.eu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19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321760" cy="467856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1"/>
          <p:cNvSpPr/>
          <p:nvPr/>
        </p:nvSpPr>
        <p:spPr>
          <a:xfrm>
            <a:off x="1627200" y="260280"/>
            <a:ext cx="585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262699"/>
                </a:solidFill>
                <a:uFillTx/>
                <a:latin typeface="Calibri"/>
              </a:rPr>
              <a:t>www.enterprise-ebg.eu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3:54Z</dcterms:created>
  <dc:creator>fscalini</dc:creator>
  <dc:description/>
  <dc:language>en-US</dc:language>
  <cp:lastModifiedBy>Suprani Stefania</cp:lastModifiedBy>
  <dcterms:modified xsi:type="dcterms:W3CDTF">2016-11-02T08:17:56Z</dcterms:modified>
  <cp:revision>69</cp:revision>
  <dc:subject/>
  <dc:title>Diapositiva 1</dc:title>
</cp:coreProperties>
</file>